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4A5-B1F1-488F-AE79-95243CCF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9EF-4859-460F-A5A5-75228881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226-7747-4A47-B436-157AE38D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921-1A27-4250-9AA1-0C2B3E61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6E8E-F8DA-4FBB-96E8-100E1F4B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6866-1AF7-4740-BD9B-326CA59E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AE73-5520-4443-93DE-B155ADC5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A322-E6ED-4D5D-9191-FC4F1C6A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EA8B-4CDE-4955-A968-BEDC361D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697E-1F3B-4D9E-B181-0306835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B9C2-65BE-4E44-A081-50800CA0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3A3-BC8B-4CE7-9EAA-68C0655E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78CB-7E9B-4C18-93EA-BC1C78A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A998-D0FF-48DD-A30E-883F2699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0F29-DFCE-44C0-AD2F-BECA7CA2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AC01-E229-4569-B446-DD23D68D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E6A4-951F-4CF6-8710-CCE81145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39B17-D249-4407-AA17-ECCEC979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88CC7-FAD9-40B4-B2A0-B65435BF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CDFA4-1BAF-4BA3-ABEB-F54165E6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DA4B1-11BA-4BD9-BB2B-47D8C4C6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2219-10E4-4DBB-B3BD-4CF136DE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B90-A0A3-4B34-A1F8-F012242F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4776-5374-4924-A55E-FF40F35E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30C4-BC7D-412D-B565-9F669705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E9773-1083-4A86-A265-CA5CAA9A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3AF9-A687-4C4E-96C0-43980576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BDF9-93B3-4DDC-AAC4-96C477F5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4B86-9A2B-4D3B-B0A9-F118884E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89F4-6459-410F-B9E4-4B431474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81E-50E0-4A90-B4A3-5A2F0145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00D-CB98-4FAB-B0DA-9E518D62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645-1E6A-42B2-AC6D-07141B60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E33-45B0-4C93-B248-2BAFDE1B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A77-6C9C-42CF-AD83-02747615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7E3-9B59-41E6-BD52-924D9C03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6AB6A3-1D1C-4041-B3B3-7F5A9BB46EA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97461C-FCE6-4594-A056-B2BE487CAFF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FF845E-FB1E-4E8D-A152-B495FC24C99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омендации по подготовке учащихся к написанию эссэ по обществознанию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. Определение проблемы высказы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ую проблему поднимает авто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формулировки проблемы необходимо указа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уальность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овременных условия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роблеме необходим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иодически возвращать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протяжении всего процесса написания эссе. Это нужно для того, чтобы верно раскрыть её содержание, а также случайно не выйти за рамки проблемы и не увлечься рассуждениями, не относящимися к смыслу данного высказывания (это одна из наиболее распространенных ошибок во многих экзаменационных эссе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сущности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противоречивости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роли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отношений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взаимосвязи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единства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. Формулировка основной мысли высказы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ее необходимо раскрыть смысл высказывания, но не стоит повторять дословно высказывание. В этом случае можно использовать следующие клише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• «Смысл данного высказывания состоит в том, что...»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Автор обращает наше внимание на то, что...»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Автор убеждён в том, что...»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. Определение своей позиции к высказыванию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есь мож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гласиться с автором пол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мож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астич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провергнув опредёленную часть высказывания,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пор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автором, высказав противоположное мнение. При этом можно воспользоваться фразами-клише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• «Я согласен с автором в том, что... »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Нельзя не согласиться с автором данного высказывания по поводу...»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Автор был прав, утверждая, что...»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На мой взгляд, автор совершенно четко отразил в своем высказывании картину современной России (современного общества... ситуацию, сложившуюся в обществе... одну из проблем современности)»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-6. Аргументация собственного мн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640" y="1600200"/>
            <a:ext cx="8784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ее следует обосновать собственное мнение по данной проблеме. Для этого необходимо подобрать аргументы (доказательства), то есть вспомнить основные термины, теоретические положе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гументация должна быть осуществлена на двух уровнях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оретический 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его основой являются обществоведческие знания (понятия, термины, противоречия, направления научной мысли, взаимосвязи, а также мнения учёных, мыслителей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пирический 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здесь возможны два вариант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использование примеров из истории, литературы и событий в обществ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обращение к личному опыт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7. Вывод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конец, нужно сформулировать вывод. Вывод не должен дословно совпадать с суждением, данным для обоснования: он сводит воеди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одном-двух предложениях основные идеи аргументов и подводит итог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одтверждающий верность или неверность суждения, являвшегося темой эссе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формулирования проблемного вывода могут быть использованы фразы-клише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• «Таким образом, можно сделать вывод...»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• «Подводя общую черту, хотелось бы отметить, что...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формление эсс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26880" indent="-3268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жно помнить, что эссе — небольшое сочинение, отличающееся смысловым единством. Поэтому составляется связный текст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уются слова-связки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деляется внима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мотному написанию обществоведческих термин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кст эссе желатель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бить на абза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аждый из которых будет выражать отдельную мысль. При этом следует соблюдать красную строку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товое эссе нужно проанализировать на предмет соответствия критериям, используемым для оценки рабо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just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Кроме того,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дополнительным достоинством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эссе является включение в нег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- краткой информации об авторе высказывания (например, «выдающийся французский философ-просветитель», «великий русский мыслитель Серебряного века», «известный философ-экзистенциалист», «основатель идеалистического направления в философии» и др.); 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- описания различных точек зрения на проблему или различных подходов к ее решению; 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- указания на многозначность используемых понятий и терминов с обоснованием того значения, в каком они применяются в эссе; 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- указания на альтернативные варианты решения проблемы.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ребования к работам выпускник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317520" indent="-3175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1) адекватное понимание проблемы и смысла высказывания; </a:t>
            </a:r>
            <a:endParaRPr b="0" lang="ru-RU" sz="42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2) соответствие содержания эссе заявленной проблеме; </a:t>
            </a:r>
            <a:endParaRPr b="0" lang="ru-RU" sz="42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3) выделение и раскрытие в эссе основных аспектов проблемы, на которые указывает автор высказывания; </a:t>
            </a:r>
            <a:endParaRPr b="0" lang="ru-RU" sz="42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4) аспекты проблемы должны быть раскрыты в заданном научном контексте; </a:t>
            </a:r>
            <a:endParaRPr b="0" lang="ru-RU" sz="42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5) четкая определённость позиции учащегося, его отношения к проблеме, к мнению автора высказывания; </a:t>
            </a:r>
            <a:endParaRPr b="0" lang="ru-RU" sz="42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6) обоснование собственной позиции на теоретическом уровне; </a:t>
            </a:r>
            <a:endParaRPr b="0" lang="ru-RU" sz="42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7) подкрепление приведённых теоретических положений осмысленными фактами общественной жизни, социального поведения, личного опыта; </a:t>
            </a:r>
            <a:endParaRPr b="0" lang="ru-RU" sz="42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8) логичность рассуждений выпускника; </a:t>
            </a:r>
            <a:endParaRPr b="0" lang="ru-RU" sz="42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9) отсутствие обществоведческих (сущностных, терминологических) и иных (фактических, логических, этических) ошибок; </a:t>
            </a:r>
            <a:endParaRPr b="0" lang="ru-RU" sz="42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10) соответствие эссе требованиям жанра и нормам русского языка. </a:t>
            </a:r>
            <a:endParaRPr b="0" lang="ru-RU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ёму эссе по обществознан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т жёстких требований. Он зависит от многих факторов: сложность темы, уровень подготовки ученика, склад мышления выпускника, наличие времени. Главное внимание уделяется качеству работы, адекватности и полноте раскрытия проблем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9.1 Раскрытие смысла высказы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ысл высказывания раскрыт: верно выделена основная идея, связанная с содержанием обществоведческого курса и/или сформулирован тезис в контексте высказывания, который требует обоснова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БАЛ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ысл высказывания не раскрыт: основная идея не выделена/тезис не сформулирован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 БАЛЛ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казание по оцениванию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Если по критерию 29.1 (раскрытие смысла высказывания), выставляется 0 баллов, то по всем остальным критериям оценивания выставляется 0 балл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римеры для работы с выказы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итат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Человек имеет свободу выбора, ибо в противном случае советы, увещевания, назидания, награды и наказания были бы бессмысленны»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Ф.Аквинский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, поднятая автором, её актуальнос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блема сознательного регулирования поведения людей является актуальной в условиях современного общества, характеризующегося усилением взаимозависимости и взаимосвязи людей друг с друг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ысл высказы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лавным проявлением сознательности поведения человека Фома Аквинский считает возможность человека определять свое поведение в соответствии с личным свободным выбором. Автор уверен, что лишь в этом случае он должен нести ответственность за свои действия, только тогда социальные санкции имеют смысл и способны воздействовать на индиви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аргументации на теоретическом уровне необходимо раскрыть тезисы и понятия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сознательного регулирования поведения челове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бода и ответственность в поведении челове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елы, в которых осуществляется выбор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оциальных санкций в формировании определённого типа поведения людей в обществ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. Солдат, исполняющий приказ, не несет ответственности за свои действия, если он находится при исполнении обязанностей, так как у него нет свободы выбора.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. Невменяемый душевнобольной человек в силу психического расстройства не в состоянии делать осознанный выбор поведения, поэтому УК РФ не рассматривает его в качестве субъекта совершения преступления и не предусматривает его уголовной ответствен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251640" y="241920"/>
            <a:ext cx="8640720" cy="6427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"/>
          <p:cNvPicPr/>
          <p:nvPr/>
        </p:nvPicPr>
        <p:blipFill>
          <a:blip r:embed="rId2"/>
          <a:srcRect l="53071" t="24523" r="7495" b="18804"/>
          <a:stretch/>
        </p:blipFill>
        <p:spPr>
          <a:xfrm>
            <a:off x="323640" y="260640"/>
            <a:ext cx="8462880" cy="631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9.2 Теоретическое содержание мини-сочин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ъяснение ключевого(-ых) понятия(-ий), наличие теоретических положений, рассуждений, выводов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онтексте каждой выделенной идеи/ тезиса приведены связанные между собой объяснение ключевого (-ых) понятия(-ий), теоретические положения, рассуждения, выводы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 БАЛЛ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онтексте каждой выделенной идеи/ тезиса приведены отдельные, не связанные между собой рассуждениями понятия и/или полож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В ответе наряду с относящимися к одной или нескольким идеям/тезисам приведены понятия и /или положения, не относящиеся к ним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БАЛЛ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етическое содержание мини-сочинения отсутствуе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смысл ключевых понятий не объяснён; теоретическ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ения, рассуждения, выводы отсутствуют или н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ны с тем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                                       0 БАЛ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9.3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Корректность использования понятий, теоретических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положений, рассуждений и выводов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утствуют ошибочные с точки зрения научного обществознания положе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БАЛ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вете имеются ошибочные с точки зрения научного обществознания положения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БАЛЛ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9.4 Качество приводимых фактов и приме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и оценивании могут быть зачтены только факты/примеры, явно связанные с иллюстрируемым положением, рассуждением, вывод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ри оценивании засчитываются только сформулированные развёрнуто корректные факты /приме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Факты/примеры, содержащие фактические и смысловые ошибки, приведшие к существенному искажению сути высказывания и свидетельствующие о непонимании используемого исторического, литературного, географического и (или) другого материала, не засчитываются при оцениван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дено не менее двух фактов/примеров из различных источников: используются сообщения СМИ, материалы учебных предметов (истории, литературы, географии и др.), факты личного социального опыта и собственные наблюд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меры из разных учебных предметов рассматриваются в качестве примеров из различных источников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БАЛЛ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дён только один факт/пример. ИЛИ Приведены факты/примеры из источников одного типа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БАЛ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ы/ примеры отсутствую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Ни один из приведённых фактов/примеров явно не связан с иллюстрируемым положением, рассуждением, выводом. ИЛИ Ни один из приведённых фактов/примеров не сформулирован развёрнуто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 БАЛ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Структура эсс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. Цитата. 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. Проблема, поднятая автором; её актуальность. 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Смысл высказывания. 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. Собственная точка зрения. 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. Аргументация на теоретическом уровне. 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6. Не менее двух примеров из социальной практики, истории и/или литературы, подтверждающие верность высказанных суждений. 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7. Вывод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. Выбор высказы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ирая высказывания для эссе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 должны быть уверены, чт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адеете основными понятиями той базовой науки, к которой оно относится;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ётко понимаете смысл высказывания;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е выразить собственное мнение (полностью или частично согласиться с высказыванием или опровергнуть его);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ете обществоведческие термины, необходимые для грамотного обоснования личной позиции на теоретическом уровне (при этом используемые термины и понятия должны четко соответствовать теме эссе и не выходить за её пределы);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меете привести примеры из социальной практики, истории, литературы, а также личного жизненного опыта для подтверждения собственного мнения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  <Words>720</Words>
  <Paragraphs>9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1T20:06:36Z</dcterms:created>
  <dc:creator>Алексей</dc:creator>
  <dc:description/>
  <dc:language>en-US</dc:language>
  <cp:lastModifiedBy>Rimma Viktorovna</cp:lastModifiedBy>
  <dcterms:modified xsi:type="dcterms:W3CDTF">2020-05-27T16:54:37Z</dcterms:modified>
  <cp:revision>12</cp:revision>
  <dc:subject/>
  <dc:title>Э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6</vt:r8>
  </property>
</Properties>
</file>